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547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6858000" cy="954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hdr"/>
          </p:nvPr>
        </p:nvSpPr>
        <p:spPr>
          <a:xfrm>
            <a:off x="-1800" y="9360"/>
            <a:ext cx="2973240" cy="446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3885840" y="9360"/>
            <a:ext cx="2973240" cy="446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1BBFD4-3C98-47B0-946E-F06F0F0054D4}" type="datetime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-1800" y="9088200"/>
            <a:ext cx="297324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3885840" y="9088200"/>
            <a:ext cx="297324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84CE5C-7B89-444A-BA8C-ED30712CDCE8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914400" y="453816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 type="sldImg"/>
          </p:nvPr>
        </p:nvSpPr>
        <p:spPr>
          <a:xfrm>
            <a:off x="1203480" y="833400"/>
            <a:ext cx="4451040" cy="333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03480" y="833400"/>
            <a:ext cx="4451040" cy="333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53816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st of bid to A depends on the share price of the merged company AFTER the mer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ume Pay $65m for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also have PV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$275m  PV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$200m  so let N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1m  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$200 )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 of shares issued to B-shar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  PV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/ 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before merger) =  $275m /$200 = 0.325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arent(incorrect cost) = N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before) - PV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0.325(200)-50 = $15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FTER MER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1.5m   hence     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PV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 N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$275/1.5 = $207.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st to A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(0.325/1.325) x 275  - $50m   =   17.45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  z PV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-   PV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= share of the merged firm held by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03480" y="833400"/>
            <a:ext cx="4451040" cy="333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53816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ly/equival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Cost to A of shares given to B’s shareholder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= (0.325/1.325) x $275m  - $50m   =   </a:t>
            </a:r>
            <a:r>
              <a:rPr b="0" lang="en-GB" sz="1400" spc="-1" strike="noStrike" u="sng">
                <a:solidFill>
                  <a:srgbClr val="ffffff"/>
                </a:solidFill>
                <a:uFillTx/>
                <a:latin typeface="Arial"/>
              </a:rPr>
              <a:t>17.45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=   z PV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-   PV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ere z  =  share of the merged firm held by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03480" y="833400"/>
            <a:ext cx="4451040" cy="333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53816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If cash is offered then the cost of the merger is unaffected by the post-merger gains.  If shares are offered then the cost depends on the merger gains, which show up in the post merger 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03480" y="833400"/>
            <a:ext cx="4451040" cy="3338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53816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gered elections to the Board- more difficult to ‘capture’ the board so they recommend merger to their shar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03480" y="833400"/>
            <a:ext cx="4451040" cy="3338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53816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D PREM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 merger/takeover the predator will have to offer a higher share price to the shareholders of the acquired firm - this is t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bid premiu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alters t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istribu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f gains from a mer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03480" y="833400"/>
            <a:ext cx="4451040" cy="3338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53816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D PREM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 merger/takeover the predator will have to offer a higher share price to the shareholders of the acquired firm - this is t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bid premiu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alters t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istribu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f gains from a mer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03480" y="833400"/>
            <a:ext cx="4451040" cy="3338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53816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ef Executive is  4 times more likely to be removed in the year after a  takeover  than during earlier years - 1991.(B-My 6ht p 94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888-1187-4860-B5EF-06507EF2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8105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914400" y="3895920"/>
            <a:ext cx="78105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78F-CD71-4713-B628-E49379EF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99036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89592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16520" y="389592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D58-D4F1-4011-A105-409FAF9E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2514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55000" y="990360"/>
            <a:ext cx="2514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95960" y="990360"/>
            <a:ext cx="2514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914400" y="3895920"/>
            <a:ext cx="2514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55000" y="3895920"/>
            <a:ext cx="2514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95960" y="3895920"/>
            <a:ext cx="2514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963-FC3A-4DB0-BA88-F2A3A5B1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914400" y="990360"/>
            <a:ext cx="7810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0A0-6DF4-45B3-86C0-361B7169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8105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81D2-CDD1-4172-B597-8477FC3C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38113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16520" y="990360"/>
            <a:ext cx="38113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012-909A-4669-B42D-53A31453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BE2-A6CB-47DC-BC46-A9AAC908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70102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248-A3B7-4CF9-B55D-3C2AB266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16520" y="990360"/>
            <a:ext cx="38113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914400" y="389592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30A-B47C-42D8-B944-9CCB4248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38113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16520" y="99036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16520" y="389592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62D-F694-4F92-BB95-466ACF3E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16520" y="99036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895920"/>
            <a:ext cx="78105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7CC-A65C-4FCD-ADF6-58CD1EAB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2000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© K.Cuthbertson,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38880" y="-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2A7B7C-19DA-4DA4-98A7-3DBCC9289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14400" y="990360"/>
            <a:ext cx="7810560" cy="5562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7238880" y="-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0F6F1A-4B79-454E-A33D-7171E5871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2000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© K.Cuthbertson,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762120"/>
            <a:ext cx="79246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ffff"/>
                </a:solidFill>
                <a:latin typeface="Arial Rounded MT Bold"/>
              </a:rPr>
              <a:t>L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ffff"/>
                </a:solidFill>
                <a:latin typeface="Arial Rounded MT Bold"/>
              </a:rPr>
              <a:t>Mergers and Acquisitions, M&amp;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b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b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0"/>
            <a:ext cx="17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fbffff"/>
                </a:solidFill>
                <a:latin typeface="Arial"/>
              </a:rPr>
              <a:t>11/9/2001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907920"/>
            <a:ext cx="792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x Advantages - loss ‘carry forwards’ used by ‘profitable’ bidder (merely a redistribution of income from tax payers to sharehol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rease Market Power / Reduce Competition-Reg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up’ Free Cash Flow after undertaking all NPV&gt;0 projects  - Empire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~ funds should be paid out to shareholders who then decide the best use for the cash (eg. to invest in other firm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bris (=Overconfidence) - Guinness-Disti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fees for Corporate Bankers/Lawyer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6920" y="0"/>
            <a:ext cx="38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d Economic Mo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49B-A7CB-4531-88C1-B087EB652E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3000"/>
          </a:bodyPr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onomic Ga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tribution of Ga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399-A757-459E-9DBD-B64D2F8578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92880" y="0"/>
            <a:ext cx="67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conomic Gains and Distribution of G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2160" y="1496880"/>
            <a:ext cx="5553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Economic G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Distribution of Ga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cash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cash offer and underpri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) Distribution of Ga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share off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0FF-DB49-4AFF-969A-13EB496CECA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2880" y="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conomic G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1241280"/>
            <a:ext cx="80010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ins from a mer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re the 2 firms worth more together than ap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 current share price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rrectly refl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each firm’s ‘stand alone’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x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$200 x 1m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$200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eflects PV of FCF)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$50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assume      P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$2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D94-4F16-4371-B623-E9E08118741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90720" y="816120"/>
            <a:ext cx="7696080" cy="59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ain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=  PV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- (PV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+ PV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) - transactions c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$25    =  275   - (200 + 50) - 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The difficulty is in assessing PV</a:t>
            </a:r>
            <a:r>
              <a:rPr b="0" lang="en-GB" sz="2200" spc="-1" strike="noStrike" u="sng" baseline="-25000">
                <a:solidFill>
                  <a:srgbClr val="ffffff"/>
                </a:solidFill>
                <a:uFillTx/>
                <a:latin typeface="Arial"/>
              </a:rPr>
              <a:t>AB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jor difficulties in using NPV to assess the gains (‘synergies’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because of lack of data on FUTUR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f A+B, at the time of the take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Friendly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takeover -  more data may be available on value of A+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Hostil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takeover - much less data available on possible synerg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cenario/sensitivity analysis will be used to estimate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V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2880" y="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conomic G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E277-5DF2-46B2-8456-5D429A316AB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0720" y="990720"/>
            <a:ext cx="789624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REAL OPTIONS THEORY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~ is now being used to value the merged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when involving ‘young’ dot.c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alue of merged 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‘conventional’ estimate of PV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value of ‘new’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w options’ = option to expand into new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~ -if these ‘take-off’, then large profits (e.g. AOL-Time Warner with Disney films down the internet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2880" y="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conomic G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865B-3A42-4CC4-A0AB-CF586D96E36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9160" y="23760"/>
            <a:ext cx="53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ribution of Gains: Cash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50840" y="685800"/>
            <a:ext cx="733104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rget ‘Correctly’ Priced in the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‘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A’ takeover of ‘B’: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in for B= Cost fo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=  (cash  paid - PV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) = 65 - 50 = $15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is the ‘bid premium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is a gain to B’s shar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Gain for A’s shar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in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= Gain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- Cost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= 25 - 15 = $10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turn to B’s shareholders = 15/50 =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turn to A’s shareholders = 10/200 = 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88B-3D53-4245-BA8F-C10F4BE99D8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1550880"/>
            <a:ext cx="84913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Gain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had been 10 (rather than 25)  then A’s shareholders would loose from the merg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in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= Gain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- Cost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= 10 - 15 = -$5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and P</a:t>
            </a:r>
            <a:r>
              <a:rPr b="0" lang="en-GB" sz="2800" spc="-1" strike="noStrike" u="sng" baseline="-25000">
                <a:solidFill>
                  <a:srgbClr val="ffffff"/>
                </a:solidFill>
                <a:uFillTx/>
                <a:latin typeface="Arial"/>
              </a:rPr>
              <a:t>A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would fall on announcement of merger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9160" y="23760"/>
            <a:ext cx="53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ribution of Gains: Cash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175-0700-436D-8A4E-2C606E8B6C5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01880" y="0"/>
            <a:ext cx="51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sh Offer: Target Underpri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44560" y="838080"/>
            <a:ext cx="7918560" cy="57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If P</a:t>
            </a:r>
            <a:r>
              <a:rPr b="0" lang="en-GB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B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 &lt;&lt; PV</a:t>
            </a:r>
            <a:r>
              <a:rPr b="0" lang="en-GB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B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 : ie. B is underpric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(for a given bid premium) more of the g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 to A.  ‘A’ can gain, even if ther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no syner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In this case there is not a gain for ‘society’, but a redistribution from B’s shareholders to A’s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~ but note that A could ‘realise’ this gain by simply buying B’s shares (and not merging) and merely  waiting for the ‘market correction’ that increases B’s pr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5BD-52E9-4870-8E77-4A7F1DDF8FA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6200" y="144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hare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0560" y="914400"/>
            <a:ext cx="84898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ssume A pays  $65m for B  (as with the cash off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ls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V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$275m,    PV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$200m,     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1m  and  P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$2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B’s shareholders are to receive the equivalent of $6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(A’s) shares to be issued to B-shar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  PV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/ P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before merger) =  $65m /$200 = 0.32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announced BEFORE the actual merger takes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D8D-DE78-4C3A-9D0B-74FDB5AA444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2520" y="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040" y="8380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ypes of Merger/ M&amp;A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od/Bad Economic Mo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conomic Gains and Distribution of G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~ Cash Offer/ Share Of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of Mergers and Defence Tact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o Benefits/Loses: Empi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lf Study: Regulation of Mergers: 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3FE-E6FE-4655-9133-9B09BD53A1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15560" y="911160"/>
            <a:ext cx="712872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Apparent(but incorrect cost to 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= 0.325 (200)-50 =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$15m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as in ‘cash offer)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- PV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B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BUT c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rrect’ cost of bid to A depends on the share pr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f the merged company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 AFTER the mer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AFTER MER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1.325m   hence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PV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/ N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$275/1.325 = $207.5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‘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True’ Cost to A of shares given to B’s shareholder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0.325 x 207.55  - $50m   =  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17.45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6200" y="144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hare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802-14F7-4E45-8A65-BDC6A7A3E4E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15840" y="7632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sh versus Share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85600" y="1295280"/>
            <a:ext cx="820908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S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to A of the merger is unaffec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post-merger gai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to A depends on the merger g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, which show up in the post merger price,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3D7-730A-49BF-BB1D-9533D79294F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3000"/>
          </a:bodyPr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ncing of Merg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fence Tac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0BE-E944-47A2-BE06-FCE79633A5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7640" y="76320"/>
            <a:ext cx="35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nancing of Mer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94240" y="914400"/>
            <a:ext cx="824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H (TENDER) O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rce of cash can be provided by the acquirer under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‘rights issue’ or, by bank borrowing or, issuing d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e.g. LBO) or by using retained profits (‘free cash flow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dvantag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target shareholders is ‘precision’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free to re-invest the cash in any other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isadvantag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cash paid out may be treat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lised capital gain and ta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dvantag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acquirer is that it retains total contro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new merged firm (ie no ‘dilution’ for its shar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C4E-2FB3-4C55-9173-DDD5469238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8000" y="914400"/>
            <a:ext cx="7941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ARE O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dvantag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arget shareholder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at any capital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 ‘new’ shares are not realised and hence not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immediate capital gains 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dvantag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arget sharehold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ave (voting) sh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he new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disadvantag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acquirer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f target (B) is overvalu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ock market or bid premium is ‘too high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XED OFFERs ARE ALSO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h, shares, preference shares, share op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7640" y="76320"/>
            <a:ext cx="35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nancing of Mer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BE2-20EF-4010-81F5-6763FE3A2E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92160" y="54000"/>
            <a:ext cx="27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fence Tac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360" y="762120"/>
            <a:ext cx="8026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C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unt a counter bid against the pre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TE KN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rrange another bid from a friendly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ISON P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 make bid costly (e.g.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you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hareholders can buy sha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 new company at  v. large dis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ights issue to dilute predators holding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ISON PUT (in bond coven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bondholders of target can demand immediate re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full, if there is a change in ow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OWN JEW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 sell off bits the acquirer is most interest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51A-8C80-45DF-9421-64E782866A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90000" y="1560600"/>
            <a:ext cx="78282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LDEN PARACH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agers get massive payoff if they are take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EEN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ibe your shareholders with promise of  larg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vidend payouts if they don’t sell their sh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buy-up shares promised to the predator,  at a prem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ARK REPEL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supermajority (80%) to approve 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restricted voting rights (for shareholders who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re than x% of st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2160" y="54000"/>
            <a:ext cx="27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fence Tac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459-9C56-4E73-B6DF-263A042BA3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6000"/>
          </a:bodyPr>
          <a:p>
            <a:pPr marL="123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o Benefits/Los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23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mpir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23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23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23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B1D-B229-4939-BCDB-E20919AEFD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91440" y="54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o Benefits/Loses: Empi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9000" y="1219320"/>
            <a:ext cx="7852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cquiring management gain control and $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4 directors of RBS shared £2.5 for successf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keover of Nat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Vodaphone CE Chris Gent £10m for take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 Mannes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cquired managers(‘golden parachutes’ or redunda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 usually redundancies for some employees of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7DE-00E7-44A8-BEE7-B95A03FEC0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15840" y="1371600"/>
            <a:ext cx="8213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AR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ARGET SHAREHOLDERS g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CQUIRING SHAREHOLDERS - lose or break ev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v. mixed (see CAR and Post merger performance - bel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1440" y="54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o Benefits/Loses: Empi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A63-13C9-4336-B9B1-5BCDB3DF36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ypes of Merger/ M&amp;A A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804-FE1A-4FDB-8331-DC37E5301A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16200" y="1143000"/>
            <a:ext cx="826560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 markets reaction/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bnormal Return and Cumulative Abnormal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) Use data from -70days to -10 days before announ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mal Return =  a + (beta)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) Data -10 days to +10 days after announ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 = Actual R  -  Normal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 = sum of AR (from -10 to +10 or lon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s are forward looking so change in price reflect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V of  all future prospects/pro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1440" y="54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o Benefits/Loses: Empi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9F4-6FD2-40EE-952F-8B49938E1F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52480" y="838080"/>
            <a:ext cx="0" cy="4876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4572000"/>
            <a:ext cx="66294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4572000"/>
            <a:ext cx="38124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5029200"/>
            <a:ext cx="45720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666880" y="2971440"/>
            <a:ext cx="38124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2971800"/>
            <a:ext cx="380880" cy="175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429000" y="4419720"/>
            <a:ext cx="4572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419720"/>
            <a:ext cx="30492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191120" y="4419720"/>
            <a:ext cx="4572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4419720"/>
            <a:ext cx="30492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019920" y="3733920"/>
            <a:ext cx="15228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72200" y="3809880"/>
            <a:ext cx="30492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477120" y="4495320"/>
            <a:ext cx="4572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4495680"/>
            <a:ext cx="53316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543800" y="4419720"/>
            <a:ext cx="30492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4572000"/>
            <a:ext cx="38124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4952880"/>
            <a:ext cx="45720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590920" y="2057040"/>
            <a:ext cx="990360" cy="3352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581280" y="1752120"/>
            <a:ext cx="45720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38480" y="1752480"/>
            <a:ext cx="2286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67080" y="1676520"/>
            <a:ext cx="457200" cy="30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1676520"/>
            <a:ext cx="30456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095880" y="990720"/>
            <a:ext cx="30492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990720"/>
            <a:ext cx="228600" cy="30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629400" y="1142640"/>
            <a:ext cx="38088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1143000"/>
            <a:ext cx="30492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50292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id announced by Doubletree 31/12/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10280" y="1936800"/>
            <a:ext cx="228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oubletree drops out as Marriott announces agreement to acquire 18/2/9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2819520" y="4648320"/>
            <a:ext cx="838080" cy="9144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095520" y="3352680"/>
            <a:ext cx="838440" cy="121932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3/12/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2/3/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1880" y="46483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6094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R (Daily) and 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148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2286000"/>
            <a:ext cx="685800" cy="685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2590920" y="3429000"/>
            <a:ext cx="30456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599840" y="1981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1600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5998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599840" y="3886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599840" y="914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533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59984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599840" y="45720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5400" y="25560"/>
            <a:ext cx="75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 and CAR: Target = Renaissance Hotel G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E34-072C-4D5D-A7E7-3E94B3043AD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836640" y="1143000"/>
            <a:ext cx="80658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 markets reaction/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RESULT (Average of US merg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quired/Target  firm’s shares have CAR of around +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quirer, CAR of -3.2% (stock offer)and -0.8% (cash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acquirer, over 2-years after merger, CAR is -17% (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ZE 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V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$10m  and CAR = +100%,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$-gain = $2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V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$1000m and CAR is -2%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$-loss = $2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1440" y="54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o Benefits/Loses: Empi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D80-C28D-4C17-889F-4BFEF0C176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90720" y="17272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Long term Post-Merger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s accounting measures of return (eg. ROC )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rged firm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relative to those in the ‘control grou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eg. non-merged firms in the same industry= ‘matched sample’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Result mergers (on average) are ‘neutral’ or ‘negative’ (UK and 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91440" y="54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o Benefits/Loses: Empi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5F7-7D02-4751-B8D8-9B618D337E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220200" y="1873080"/>
            <a:ext cx="31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nd of L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555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332-2581-41B4-A604-6718511A05B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3000"/>
          </a:bodyPr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f Stu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gulation of Merg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8C9-97CD-4D70-8F43-8F64857E90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990720" y="14400"/>
            <a:ext cx="67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ulation of Mergers: 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4320" y="914400"/>
            <a:ext cx="8007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akeover Pa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o ensure fairness for all sharehol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n UK when ‘one firm’ holds 3% of the total sha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utstanding of B,  then you must make this 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Purchase of more than 10% of shares in B within 7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not allowed if this takes total shareholding to over 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o prevent purchases from ‘professionals’ rath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l shar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960-BF49-49EE-B7B0-337946BB71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95760" y="1447920"/>
            <a:ext cx="792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over 30% holding then T.P usually insists on a bid for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 B’s remaining shares.  B comes ‘into play’  a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keover target (observable by al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ffice of Fair Trading (OF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ensures 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onopolies and Mergers Com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nvestigates M&amp;A referred to it by 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14400"/>
            <a:ext cx="67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ulation of Mergers: 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EBF-10B9-4205-BB74-4384AF24300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219840" y="1873080"/>
            <a:ext cx="28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nd of Sl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555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40F-8814-4B9C-8E79-53D299DBA6C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3240" y="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ypes of Me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14040" y="8380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er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bining of two business under common ownership (over 95% are friendly, 5% hostile takeov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nks and Building Socie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axo-Welcome,  Nestle-Rowntree, Granada-Forte(199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Ver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il drilling, refinery and petrol 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 manufacturer and ret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L (America Online) and Time Warner (2000), Yahoo and others(1996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onglomerat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Hanson Tr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CB6-213B-4F97-8887-63A4C1F94C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90360" y="1295280"/>
            <a:ext cx="78483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isbursement/Disinvestment/Downsi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we will not discuss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trategic Alli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BA, Quantas, Air Liberte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3240" y="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ypes of Me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EA0-5E18-4BEF-B71E-CF36B40843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5480" y="0"/>
            <a:ext cx="21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&amp;A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76212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d 1960’s   -conglomerate merg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en broken up in 1980’s and 1990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970’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vertical integ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ow ‘outsourcing’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980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leveraged buyouts (USA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RJR Nabis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990’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horizontal mer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eg. banks)/cross-border (eg. in Euro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 ‘waves’   71-72, 87-89, 97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2D1-94B9-4786-B9D9-DD6C664BD3B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38080" y="76212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997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ish Petroleum acquires Amoco ($48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xon acquires Mobil ($80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imler-Benz acquires Chrysler ($38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vellers Group acquires  Citicorp ($83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tsche Bank acquires Bankers Trust ($10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OL-Time Warner ($190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loyds - Abbey Nationa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5480" y="0"/>
            <a:ext cx="21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&amp;A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99D-B5CE-4883-9348-16C398C5245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od/Bad Economic Mo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628A-6207-4C4A-B834-E92C8928EB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6920" y="0"/>
            <a:ext cx="40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od Economic Mo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181160"/>
            <a:ext cx="815328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ore Efficient Use of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management in merged fi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e.g. Marriott takeover of Renaissance hotel grp,  Dec 19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st savings (e.g. close bank branch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ditional revenue generation (e.g. AOL-Time War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chnology transfer/know-how (e.g. Glaxo-Welc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ategic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‘option’ to do something in the future e.g. AOL-Time Warn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BAA-BD76-44E6-92CC-42AD226C63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4T08:10:24Z</dcterms:created>
  <dc:creator>Imperial College</dc:creator>
  <dc:description/>
  <dc:language>en-US</dc:language>
  <cp:lastModifiedBy>Keith Cuthbertson</cp:lastModifiedBy>
  <cp:lastPrinted>2001-09-24T16:22:44Z</cp:lastPrinted>
  <dcterms:modified xsi:type="dcterms:W3CDTF">2001-10-03T17:53:34Z</dcterms:modified>
  <cp:revision>68</cp:revision>
  <dc:subject/>
  <dc:title>No Slide Title</dc:title>
</cp:coreProperties>
</file>